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441D-8807-4E50-AA2F-7E530524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D18F-6914-4350-861E-51200A46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FB6C-C5C2-4029-AF24-E4C187737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0101-4940-4601-98DF-E06B8A33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733F-3F58-4EF6-AC67-0CE5AD6FC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E0A8-177F-4E3C-9319-197D02A7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F363-3CC3-4769-8428-104DAA09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CD71-A690-4E69-B0CD-07D88B09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B6ED-D59D-4520-8C1B-6926F3D4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6E04-7ED6-4DE5-B423-5363DD12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74E6-28E0-4939-B1DF-65322077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30BE-82B0-42A3-A39A-DCF60966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CFCB-E186-4225-810E-165A56E4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5ECD-2880-43EF-8015-82428835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836D-058E-4711-9FE2-4DE317BE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97E4-CEA1-40A4-A19B-F9B6E64BF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3901-04BE-4FBD-9ECA-3979BE5A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CDF7-09CA-47C3-B6AD-66D0EED2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63B5-9F22-424F-9F86-8F8FA525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CAE1-19D2-4A31-BD87-4BFB135D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5A77-3796-414B-A1A7-33AD9A59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7E4F-59A9-45CE-83ED-67ED679D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764A-7677-4F5F-A917-5ED46058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B740-9285-49E6-96A0-D013E225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93AA-D9DF-427B-A5D6-279AB91DA0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3846-21E0-4C10-A0E8-8FF113BB42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9 ГОД И ПЛАНОВЫЙ ПЕРИОД 2020-2021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33:04Z</dcterms:modified>
  <cp:revision>43</cp:revision>
  <dc:subject/>
  <dc:title>Структура собственных доходов на 2016 год бюджета Дальнереченского городского округа</dc:title>
</cp:coreProperties>
</file>